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1A5-D824-408C-ACF6-D150E7C6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630-3DE4-4CA0-A0A4-FBE8D551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E72-3943-4391-9874-20CFCDB8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E04-2169-4B38-8623-08AA3BF3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8AE71-2A11-43F6-A522-74531A38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8404E-651D-466B-9D33-DD29DD54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C1354-CB1A-494B-AACE-3C38B9B0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9FE30-BB2F-4AC4-BB34-AA3D75F9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03DB7-39F2-409A-8C63-C8F2E9B9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1ABA2-E29B-4CFD-A616-9CBD46F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7421E-4733-436F-A893-4EDA5E1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07E-2988-4603-B6D2-2800ED6F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6CF23-58DF-4F38-BB2C-2698A902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CDBB-5183-475A-9505-0DB4F306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DD32A-02EB-48A2-ADB1-46DB1C7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7D8D-0A0B-4B65-BAEB-E319BD4F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813C3-2987-4164-8D46-4F4DFCF7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8C0-5394-4D6C-B37E-1808683C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24B-8C0C-4CB9-B9A0-756D813B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3BD-F4F8-4D55-9261-75F7F52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7D8-3005-48E5-9B61-89A9ED85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775-DD2B-45E4-9A79-DEBA243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8B8-F76F-4C9B-A4FF-7829E12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447-065C-41EF-BE61-02850D7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0AAB-4676-44D4-BA4F-E4B1A259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2278-347D-4E06-9870-C772FDCC9E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MEDICINSKI FAKULTET KRAGUJEVAC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3428640"/>
            <a:ext cx="7991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Rehabilitacij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hemiplegi</a:t>
            </a: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rognoza hemipleg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/4 hemiplegičara umire prvih 24 sata od nastanka insu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/3 do 1/4  ostaju inval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gućnost RC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Veći broj bolesnika postaje nezavisno u ADŽ, a manji se vraća na po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roj bolesnika je u porastu, kapaciteti nedovolj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Prognostički faktori oporavka hemiplegiča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Životno do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rsta i težina pratećih obolj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anje sv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rajanje i dubina k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reme pojave spasticit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inkinez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ntrola sfinkt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sihički st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otiv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Komplikacije kod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ekubi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lućne komplikacije (pneumonija,plućna embol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rinarna inf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ardiovaskularne komplik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astrointestinalne komplik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ame-šaka 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000920" cy="9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Dijagnostika CV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7346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namneza i klinički pregled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kardiološko ispitivanje -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merenje TA, EKG i ehokardiografija,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pregled očnog dn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pregled likvor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UZ dijagnostik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transkranijalna Doppler sonografij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CT i NMR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(CVI i veće abnormalnosti krvnih sudov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laboratorijski pregled -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ispitivanje lipida u krvi (odnos LDL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i HDL, holesterola i triglicerida) i glikemije.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Terapija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ga boles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dikamentna - citoprotek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ibrinoliti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ntitrombotička-Hepa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ntiedematozna-Manit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izikalna 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Fizikalna terapija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lektroterapija-SG, ES, TENS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inezi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agneto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rapija ra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riga o psihičkom stan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rmo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rtotis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Faze hemipleg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Faza mlitave hemiplegije  - faza mirovanja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Faza spastične hemiplegije – faza mobilizacije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Faza relativnog oporavk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  nastaje neposredno posle CV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  traje od nekoliko dana do nekoliko nedel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Karakteriše s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oremećajem stanja s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oguća devijacija glave i očiju ka oštećenoj stran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fazijom, koja može bit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988920" indent="-1792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motorn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ili ekspresivna – bolesnik nije u stanju da izgovara reč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988920" indent="-1792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8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nzorna ili perceptivna –bolesnik čuje tonove ali ih ne razu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ugao usana je niži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gutanje je onemogućeno ili otežan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3036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onus oduzetih ekstremiteta je niži (mlitava oduzetos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63640" y="9079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aza mlitave hemipleg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0280" y="813960"/>
            <a:ext cx="7146720" cy="5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aza spastične hemipleg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7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ovišen tonus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hiperrefleksij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ojav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patoloških refleksa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fleksionim sinergizmom na gornjem ekstremitetu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kstenzionim sinergizmom  na donjem ekstremitetu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274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oremećajem površnog i dubokog senzibilite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II     Faza relativnog oporav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354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risutni su motorički obrasci masivnih motoričkih aktivnosti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-354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Izolovani pokreti se još uvek ne mogu izvesti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ilitacij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emiplegič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astoji se 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e hospitalne rehabilitacije u apoplekticnoj jedinici,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cionarne rehabilitacije  u specijalizovanim ustanov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 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bulantne rehabilit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j terapijskih mer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gran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je – redukcija 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brzanje razvoja postojecih fun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 obuka u strategiji oporavk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44480"/>
            <a:ext cx="72626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76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erebrovaskularne bolesti su oštećenja mozga prouzrokovana patološkim procesima na krvnim sudovima i poremećajima cirkulacije moz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ineziterapijski tretman ima odlučujuću ulogu u osposobljavanju pacijenata nakon CVI, i još uvek se ne može zameniti ni jednim drugim sredstvo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lj rehabilit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oravak senzo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h funkci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mnost za aktivinosti dnevnog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acija stana –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klanjanj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ijera za kretanje i ugradnja po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h sredstava koja omogu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ju bolj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ot pacij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tovanje uku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o 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u zbrinjavanja i pom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pacijen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ocijalna i profesionalna reintegr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Evaluacija posturalnog tonu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4200" indent="-14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65040"/>
                <a:tab algn="l" pos="44136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njanjem položaja glave menja se tonus na rukama i nog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4200" indent="-2163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365040"/>
                <a:tab algn="l" pos="441360"/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Simetrični refleks vrat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 prilikom fleksije glave i vrata  doći će do povećanja tonusa fleksora u gornjim ekstremitetima i tonusa ekstenzora u donjim ekstremite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44200" indent="-2163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365040"/>
                <a:tab algn="l" pos="441360"/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simetrični refleks vrata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ukoliko se glava okrene na jednu stranu, tonus ekstenzora će se povećati na ipsilateralnim ekstremitetima, dok se na suprotnoj strani tonus ekstenzora smanjuje a povećava se tonus flekso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4200" indent="-14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65040"/>
                <a:tab algn="l" pos="44136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habilitacija hemiplegičara u prvom 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u krevetu u l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j pozici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isanje tonusa kroz fiz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 aktivn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zicioniranje po Bobath-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zicioniranje ,,Bridging’’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a (mo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zalna stimul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jentacija u prosto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a op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a bolesne str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zicioniranje u st mlitavo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ečiti razvoj spasticiteta, kontraktura i bolnih stanj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oložaj supin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8560" indent="-17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Glava se postavlja u lateralnu fleksiju prema zdravoj strani tela. Ruka je na jastuku, u abdukciji, spoljnoj rotaciji i elevaciji u ramenu i ekstendirana je pored tela. Noga treba da ima oslonac ispod kolena i laku fleksiju u kolenu. Stopalo se postavlja u laku dorzalnu fleksi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8560" indent="-17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asivne vežbe, a kasnije potpomog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zicioniranje leve hemipleg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038840" cy="315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1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Samoaktiviranje i pasivne vež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HWScan00236444"/>
          <p:cNvPicPr/>
          <p:nvPr/>
        </p:nvPicPr>
        <p:blipFill>
          <a:blip r:embed="rId1"/>
          <a:stretch/>
        </p:blipFill>
        <p:spPr>
          <a:xfrm>
            <a:off x="324000" y="2492280"/>
            <a:ext cx="4254480" cy="2292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WScan00233"/>
          <p:cNvPicPr/>
          <p:nvPr/>
        </p:nvPicPr>
        <p:blipFill>
          <a:blip r:embed="rId2"/>
          <a:stretch/>
        </p:blipFill>
        <p:spPr>
          <a:xfrm>
            <a:off x="5148360" y="1989000"/>
            <a:ext cx="3009960" cy="2040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WScan002347"/>
          <p:cNvPicPr/>
          <p:nvPr/>
        </p:nvPicPr>
        <p:blipFill>
          <a:blip r:embed="rId3"/>
          <a:stretch/>
        </p:blipFill>
        <p:spPr>
          <a:xfrm>
            <a:off x="5148360" y="4581360"/>
            <a:ext cx="3024000" cy="19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habilitacija hemiplegičara u drug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eziterapija u krevetu i sedenje uz ogran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e aktiv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lazni pokreti u cilju prelaza iz l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 u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s u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 u pokretna ko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ioniranje kao u I stadiju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Uvežbavanje balansa u sedeć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scan0001"/>
          <p:cNvPicPr/>
          <p:nvPr/>
        </p:nvPicPr>
        <p:blipFill>
          <a:blip r:embed="rId1"/>
          <a:stretch/>
        </p:blipFill>
        <p:spPr>
          <a:xfrm>
            <a:off x="826920" y="1989000"/>
            <a:ext cx="7561440" cy="424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alans u sedeć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9068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cijent se podiže u sedeći položaj na ivici kreveta, tako što se zdravom rukom drži za uzglavlje kreveta. Zdrava ruka se postavlja kao oslonac, na celu šaku. Zatim pacijent menja položaj ka zdravom i oštećen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vežbavanje balansa u sedećem polož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sr-Latn-CS" sz="2400" spc="-1" strike="noStrike">
                <a:solidFill>
                  <a:srgbClr val="ffffff"/>
                </a:solidFill>
                <a:latin typeface="Tahoma"/>
              </a:rPr>
              <a:t>Strümpel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fenomen – kroz refleksnu aktivnost, dobija se odgovor dorzalne fleksije stopala, što omogućuje pri hodu bolju sigurnost i koordinaciju</a:t>
            </a:r>
            <a:r>
              <a:rPr b="0" lang="sr-Latn-C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scan0026"/>
          <p:cNvPicPr/>
          <p:nvPr/>
        </p:nvPicPr>
        <p:blipFill>
          <a:blip r:embed="rId1"/>
          <a:stretch/>
        </p:blipFill>
        <p:spPr>
          <a:xfrm>
            <a:off x="5745240" y="2774880"/>
            <a:ext cx="1842840" cy="2373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scan0031"/>
          <p:cNvPicPr/>
          <p:nvPr/>
        </p:nvPicPr>
        <p:blipFill>
          <a:blip r:embed="rId2"/>
          <a:stretch/>
        </p:blipFill>
        <p:spPr>
          <a:xfrm>
            <a:off x="7658280" y="4038480"/>
            <a:ext cx="1485720" cy="19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 hemipleg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 u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ećem stadiju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unkcionalna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a pleg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g ram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avladavanje samostalnog transvera iz kreveta u ko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zicioniranje u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 polo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u (bala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zicioniranje u krevetu kroz regulaciju ton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kreti prelaza iz sed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 u sto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sta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0240" y="813960"/>
            <a:ext cx="50194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Definicija hemipleg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561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r-Latn-CS" sz="3100" spc="-1" strike="noStrike">
                <a:solidFill>
                  <a:srgbClr val="ffffff"/>
                </a:solidFill>
                <a:latin typeface="Tahoma"/>
              </a:rPr>
              <a:t>Hemiplegija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Latn-CS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gubitak voljnih pokreta (oduzetost jedne polovine tela)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Hemiparez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- slabost voljnih pokr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6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Etiološki uzrok se nalazi u motornoj zoni suprotne hemisfere mozg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100" spc="-1" strike="noStrike">
                <a:solidFill>
                  <a:srgbClr val="ffffff"/>
                </a:solidFill>
                <a:latin typeface="Tahoma"/>
              </a:rPr>
              <a:t>SY hemiplegij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eći stadij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J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trol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fer ravno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ortostatski fenome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bacivanje 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ta naizmen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rava–bolesna n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a posturalnih i koordinacionih rea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etvr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dijum osposobljavanja hemiplegič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janje i 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peno po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e t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e 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 u uspravnom stav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h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e 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a 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janje uz stepenic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silazak niz stepen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ola op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ja – v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za kinestez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vakodnevni trening u okviru AD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 rad se uključuje i somatoped, logoped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Hod hemiplegičara uz pomoć 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222222222"/>
          <p:cNvPicPr/>
          <p:nvPr/>
        </p:nvPicPr>
        <p:blipFill>
          <a:blip r:embed="rId1"/>
          <a:stretch/>
        </p:blipFill>
        <p:spPr>
          <a:xfrm>
            <a:off x="3033720" y="1905120"/>
            <a:ext cx="30751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na motor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h sposobnosti    hemipleg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na 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h sposobnosti hemipleg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a predstavlja z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an element u evaluaciji 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 sprem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 testovi su zn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jni u pr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ju rezultata terapiskog programa i korekciji rehabilitacionog pla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savremenoj literaturi postoji niz testova koji evaluiraju motor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 sposobn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htevi koji se tr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 od testov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a procenu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sobnosti hemipleg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je jednostavan i upotrebljiv u klinickoj prak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su klinicki testovi hoda valid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test obuhvata svakodnevne sposobnosti pacij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se lako moze interpretira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ovi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za procenu hemiplegičar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cionalni test kretanja (FA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Functional indepedence measurement (FI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uropean strocke 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eto minutni test hod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-meter Gehtes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o ili dvanestominutni test hod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up &amp; go test (TUG te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 assessment 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kin sk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547560"/>
            <a:ext cx="8690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762120" y="1523880"/>
            <a:ext cx="7086240" cy="4734000"/>
            <a:chOff x="762120" y="1523880"/>
            <a:chExt cx="7086240" cy="4734000"/>
          </a:xfrm>
        </p:grpSpPr>
        <p:grpSp>
          <p:nvGrpSpPr>
            <p:cNvPr id="162" name="Group 4"/>
            <p:cNvGrpSpPr/>
            <p:nvPr/>
          </p:nvGrpSpPr>
          <p:grpSpPr>
            <a:xfrm>
              <a:off x="767880" y="1528560"/>
              <a:ext cx="7072560" cy="4724640"/>
              <a:chOff x="767880" y="1528560"/>
              <a:chExt cx="7072560" cy="4724640"/>
            </a:xfrm>
          </p:grpSpPr>
          <p:grpSp>
            <p:nvGrpSpPr>
              <p:cNvPr id="163" name="Group 5"/>
              <p:cNvGrpSpPr/>
              <p:nvPr/>
            </p:nvGrpSpPr>
            <p:grpSpPr>
              <a:xfrm>
                <a:off x="767880" y="1528560"/>
                <a:ext cx="3810240" cy="762120"/>
                <a:chOff x="767880" y="1528560"/>
                <a:chExt cx="3810240" cy="762120"/>
              </a:xfrm>
            </p:grpSpPr>
            <p:sp>
              <p:nvSpPr>
                <p:cNvPr id="164" name="Rectangle 6"/>
                <p:cNvSpPr/>
                <p:nvPr/>
              </p:nvSpPr>
              <p:spPr>
                <a:xfrm>
                  <a:off x="856080" y="1528560"/>
                  <a:ext cx="3633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ne može da ide ili zahteva pomoć dve osob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7"/>
                <p:cNvSpPr/>
                <p:nvPr/>
              </p:nvSpPr>
              <p:spPr>
                <a:xfrm>
                  <a:off x="767880" y="1528560"/>
                  <a:ext cx="38102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8"/>
              <p:cNvGrpSpPr/>
              <p:nvPr/>
            </p:nvGrpSpPr>
            <p:grpSpPr>
              <a:xfrm>
                <a:off x="4578480" y="1528560"/>
                <a:ext cx="3261960" cy="762120"/>
                <a:chOff x="4578480" y="1528560"/>
                <a:chExt cx="3261960" cy="762120"/>
              </a:xfrm>
            </p:grpSpPr>
            <p:sp>
              <p:nvSpPr>
                <p:cNvPr id="167" name="Rectangle 9"/>
                <p:cNvSpPr/>
                <p:nvPr/>
              </p:nvSpPr>
              <p:spPr>
                <a:xfrm>
                  <a:off x="4666320" y="1528560"/>
                  <a:ext cx="30862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10"/>
                <p:cNvSpPr/>
                <p:nvPr/>
              </p:nvSpPr>
              <p:spPr>
                <a:xfrm>
                  <a:off x="4578480" y="1528560"/>
                  <a:ext cx="32619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11"/>
              <p:cNvGrpSpPr/>
              <p:nvPr/>
            </p:nvGrpSpPr>
            <p:grpSpPr>
              <a:xfrm>
                <a:off x="767880" y="2290680"/>
                <a:ext cx="3810240" cy="762120"/>
                <a:chOff x="767880" y="2290680"/>
                <a:chExt cx="3810240" cy="762120"/>
              </a:xfrm>
            </p:grpSpPr>
            <p:sp>
              <p:nvSpPr>
                <p:cNvPr id="170" name="Rectangle 12"/>
                <p:cNvSpPr/>
                <p:nvPr/>
              </p:nvSpPr>
              <p:spPr>
                <a:xfrm>
                  <a:off x="856080" y="2290680"/>
                  <a:ext cx="3633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zahteva pomoć jedne osobe u cilju održavanja ravnotež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13"/>
                <p:cNvSpPr/>
                <p:nvPr/>
              </p:nvSpPr>
              <p:spPr>
                <a:xfrm>
                  <a:off x="767880" y="2290680"/>
                  <a:ext cx="38102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14"/>
              <p:cNvGrpSpPr/>
              <p:nvPr/>
            </p:nvGrpSpPr>
            <p:grpSpPr>
              <a:xfrm>
                <a:off x="4578480" y="2290680"/>
                <a:ext cx="3261960" cy="762120"/>
                <a:chOff x="4578480" y="2290680"/>
                <a:chExt cx="3261960" cy="762120"/>
              </a:xfrm>
            </p:grpSpPr>
            <p:sp>
              <p:nvSpPr>
                <p:cNvPr id="173" name="Rectangle 15"/>
                <p:cNvSpPr/>
                <p:nvPr/>
              </p:nvSpPr>
              <p:spPr>
                <a:xfrm>
                  <a:off x="4666320" y="2290680"/>
                  <a:ext cx="30862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16"/>
                <p:cNvSpPr/>
                <p:nvPr/>
              </p:nvSpPr>
              <p:spPr>
                <a:xfrm>
                  <a:off x="4578480" y="2290680"/>
                  <a:ext cx="32619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17"/>
              <p:cNvGrpSpPr/>
              <p:nvPr/>
            </p:nvGrpSpPr>
            <p:grpSpPr>
              <a:xfrm>
                <a:off x="767880" y="3052800"/>
                <a:ext cx="3810240" cy="914400"/>
                <a:chOff x="767880" y="3052800"/>
                <a:chExt cx="3810240" cy="914400"/>
              </a:xfrm>
            </p:grpSpPr>
            <p:sp>
              <p:nvSpPr>
                <p:cNvPr id="176" name="Rectangle 18"/>
                <p:cNvSpPr/>
                <p:nvPr/>
              </p:nvSpPr>
              <p:spPr>
                <a:xfrm>
                  <a:off x="856080" y="3052800"/>
                  <a:ext cx="36334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zahteva intermedijarnu pomoć jedne osobe kod hoda,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igurnosti ravoteže, i koordinacije hod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19"/>
                <p:cNvSpPr/>
                <p:nvPr/>
              </p:nvSpPr>
              <p:spPr>
                <a:xfrm>
                  <a:off x="767880" y="3052800"/>
                  <a:ext cx="38102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20"/>
              <p:cNvGrpSpPr/>
              <p:nvPr/>
            </p:nvGrpSpPr>
            <p:grpSpPr>
              <a:xfrm>
                <a:off x="4578480" y="3052800"/>
                <a:ext cx="3261960" cy="914400"/>
                <a:chOff x="4578480" y="3052800"/>
                <a:chExt cx="3261960" cy="914400"/>
              </a:xfrm>
            </p:grpSpPr>
            <p:sp>
              <p:nvSpPr>
                <p:cNvPr id="179" name="Rectangle 21"/>
                <p:cNvSpPr/>
                <p:nvPr/>
              </p:nvSpPr>
              <p:spPr>
                <a:xfrm>
                  <a:off x="4666320" y="3052800"/>
                  <a:ext cx="30862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22"/>
                <p:cNvSpPr/>
                <p:nvPr/>
              </p:nvSpPr>
              <p:spPr>
                <a:xfrm>
                  <a:off x="4578480" y="3052800"/>
                  <a:ext cx="32619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23"/>
              <p:cNvGrpSpPr/>
              <p:nvPr/>
            </p:nvGrpSpPr>
            <p:grpSpPr>
              <a:xfrm>
                <a:off x="767880" y="3967200"/>
                <a:ext cx="3810240" cy="761760"/>
                <a:chOff x="767880" y="3967200"/>
                <a:chExt cx="3810240" cy="761760"/>
              </a:xfrm>
            </p:grpSpPr>
            <p:sp>
              <p:nvSpPr>
                <p:cNvPr id="182" name="Rectangle 24"/>
                <p:cNvSpPr/>
                <p:nvPr/>
              </p:nvSpPr>
              <p:spPr>
                <a:xfrm>
                  <a:off x="856080" y="3967200"/>
                  <a:ext cx="36334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iziskuje potrebu verbalne potpore ili praćenja od strane jeddne osobe (psihička potpor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25"/>
                <p:cNvSpPr/>
                <p:nvPr/>
              </p:nvSpPr>
              <p:spPr>
                <a:xfrm>
                  <a:off x="767880" y="3967200"/>
                  <a:ext cx="38102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26"/>
              <p:cNvGrpSpPr/>
              <p:nvPr/>
            </p:nvGrpSpPr>
            <p:grpSpPr>
              <a:xfrm>
                <a:off x="4578480" y="3967200"/>
                <a:ext cx="3261960" cy="761760"/>
                <a:chOff x="4578480" y="3967200"/>
                <a:chExt cx="3261960" cy="761760"/>
              </a:xfrm>
            </p:grpSpPr>
            <p:sp>
              <p:nvSpPr>
                <p:cNvPr id="185" name="Rectangle 27"/>
                <p:cNvSpPr/>
                <p:nvPr/>
              </p:nvSpPr>
              <p:spPr>
                <a:xfrm>
                  <a:off x="4666320" y="3967200"/>
                  <a:ext cx="30862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28"/>
                <p:cNvSpPr/>
                <p:nvPr/>
              </p:nvSpPr>
              <p:spPr>
                <a:xfrm>
                  <a:off x="4578480" y="3967200"/>
                  <a:ext cx="32619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29"/>
              <p:cNvGrpSpPr/>
              <p:nvPr/>
            </p:nvGrpSpPr>
            <p:grpSpPr>
              <a:xfrm>
                <a:off x="767880" y="4728960"/>
                <a:ext cx="3810240" cy="914400"/>
                <a:chOff x="767880" y="4728960"/>
                <a:chExt cx="3810240" cy="914400"/>
              </a:xfrm>
            </p:grpSpPr>
            <p:sp>
              <p:nvSpPr>
                <p:cNvPr id="188" name="Rectangle 30"/>
                <p:cNvSpPr/>
                <p:nvPr/>
              </p:nvSpPr>
              <p:spPr>
                <a:xfrm>
                  <a:off x="856080" y="4728960"/>
                  <a:ext cx="36334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acijent je samostalan po ravnom terenu pri hodu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ahteva minimalnu pomoć kod savladjivanja stepenic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31"/>
                <p:cNvSpPr/>
                <p:nvPr/>
              </p:nvSpPr>
              <p:spPr>
                <a:xfrm>
                  <a:off x="767880" y="4728960"/>
                  <a:ext cx="38102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32"/>
              <p:cNvGrpSpPr/>
              <p:nvPr/>
            </p:nvGrpSpPr>
            <p:grpSpPr>
              <a:xfrm>
                <a:off x="4578480" y="4728960"/>
                <a:ext cx="3261960" cy="914400"/>
                <a:chOff x="4578480" y="4728960"/>
                <a:chExt cx="3261960" cy="914400"/>
              </a:xfrm>
            </p:grpSpPr>
            <p:sp>
              <p:nvSpPr>
                <p:cNvPr id="191" name="Rectangle 33"/>
                <p:cNvSpPr/>
                <p:nvPr/>
              </p:nvSpPr>
              <p:spPr>
                <a:xfrm>
                  <a:off x="4666320" y="4728960"/>
                  <a:ext cx="30862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34"/>
                <p:cNvSpPr/>
                <p:nvPr/>
              </p:nvSpPr>
              <p:spPr>
                <a:xfrm>
                  <a:off x="4578480" y="4728960"/>
                  <a:ext cx="32619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35"/>
              <p:cNvGrpSpPr/>
              <p:nvPr/>
            </p:nvGrpSpPr>
            <p:grpSpPr>
              <a:xfrm>
                <a:off x="767880" y="5643360"/>
                <a:ext cx="3810240" cy="609840"/>
                <a:chOff x="767880" y="5643360"/>
                <a:chExt cx="3810240" cy="609840"/>
              </a:xfrm>
            </p:grpSpPr>
            <p:sp>
              <p:nvSpPr>
                <p:cNvPr id="194" name="Rectangle 36"/>
                <p:cNvSpPr/>
                <p:nvPr/>
              </p:nvSpPr>
              <p:spPr>
                <a:xfrm>
                  <a:off x="856080" y="5643360"/>
                  <a:ext cx="3633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amostalan u okviru svih zahteva ADŽ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37"/>
                <p:cNvSpPr/>
                <p:nvPr/>
              </p:nvSpPr>
              <p:spPr>
                <a:xfrm>
                  <a:off x="767880" y="5643360"/>
                  <a:ext cx="38102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38"/>
              <p:cNvGrpSpPr/>
              <p:nvPr/>
            </p:nvGrpSpPr>
            <p:grpSpPr>
              <a:xfrm>
                <a:off x="4578480" y="5643360"/>
                <a:ext cx="3261960" cy="609840"/>
                <a:chOff x="4578480" y="5643360"/>
                <a:chExt cx="3261960" cy="609840"/>
              </a:xfrm>
            </p:grpSpPr>
            <p:sp>
              <p:nvSpPr>
                <p:cNvPr id="197" name="Rectangle 39"/>
                <p:cNvSpPr/>
                <p:nvPr/>
              </p:nvSpPr>
              <p:spPr>
                <a:xfrm>
                  <a:off x="4666320" y="5643360"/>
                  <a:ext cx="30862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40"/>
                <p:cNvSpPr/>
                <p:nvPr/>
              </p:nvSpPr>
              <p:spPr>
                <a:xfrm>
                  <a:off x="4578480" y="5643360"/>
                  <a:ext cx="32619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41"/>
            <p:cNvSpPr/>
            <p:nvPr/>
          </p:nvSpPr>
          <p:spPr>
            <a:xfrm>
              <a:off x="762120" y="1523880"/>
              <a:ext cx="7086240" cy="4734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5800" y="533520"/>
            <a:ext cx="73152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d Up &amp; Go Test (TUG te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ias , Richards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jent ustaje sa jedne standardizovane stolice, hoda  tri metra i vraća se nazad seda na stolicu. Meri se vreme za koje pacijent potroši od istajanja do ponovnog sedanja na stolicu. Granična vrednost je 14 sekundi.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jent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me je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otrebn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še od 30 sekundi  zahteva pomoć u ADŽ. Kod osoba preko 65 godina kod ovog testa postoji opasnost od pada u toku izvodjenja ove motoričke aktivnosti. TUG test ima negativnu korelaciju sa brzinom hoda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 = - 0,61, Berg-balans-skala r = - 0,81, Barthel index r = - 0,7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838080" y="4648320"/>
            <a:ext cx="7238880" cy="1442880"/>
            <a:chOff x="838080" y="4648320"/>
            <a:chExt cx="7238880" cy="1442880"/>
          </a:xfrm>
        </p:grpSpPr>
        <p:grpSp>
          <p:nvGrpSpPr>
            <p:cNvPr id="202" name="Group 4"/>
            <p:cNvGrpSpPr/>
            <p:nvPr/>
          </p:nvGrpSpPr>
          <p:grpSpPr>
            <a:xfrm>
              <a:off x="844200" y="4653000"/>
              <a:ext cx="7225560" cy="1433520"/>
              <a:chOff x="844200" y="4653000"/>
              <a:chExt cx="7225560" cy="1433520"/>
            </a:xfrm>
          </p:grpSpPr>
          <p:grpSp>
            <p:nvGrpSpPr>
              <p:cNvPr id="203" name="Group 5"/>
              <p:cNvGrpSpPr/>
              <p:nvPr/>
            </p:nvGrpSpPr>
            <p:grpSpPr>
              <a:xfrm>
                <a:off x="844200" y="4653000"/>
                <a:ext cx="1271520" cy="793800"/>
                <a:chOff x="844200" y="4653000"/>
                <a:chExt cx="1271520" cy="793800"/>
              </a:xfrm>
            </p:grpSpPr>
            <p:sp>
              <p:nvSpPr>
                <p:cNvPr id="204" name="Rectangle 6"/>
                <p:cNvSpPr/>
                <p:nvPr/>
              </p:nvSpPr>
              <p:spPr>
                <a:xfrm>
                  <a:off x="937080" y="4653000"/>
                  <a:ext cx="10861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atum prijem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Rectangle 7"/>
                <p:cNvSpPr/>
                <p:nvPr/>
              </p:nvSpPr>
              <p:spPr>
                <a:xfrm>
                  <a:off x="844200" y="4653000"/>
                  <a:ext cx="127152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6" name="Group 8"/>
              <p:cNvGrpSpPr/>
              <p:nvPr/>
            </p:nvGrpSpPr>
            <p:grpSpPr>
              <a:xfrm>
                <a:off x="2116080" y="4653000"/>
                <a:ext cx="1455480" cy="793800"/>
                <a:chOff x="2116080" y="4653000"/>
                <a:chExt cx="1455480" cy="793800"/>
              </a:xfrm>
            </p:grpSpPr>
            <p:sp>
              <p:nvSpPr>
                <p:cNvPr id="207" name="Rectangle 9"/>
                <p:cNvSpPr/>
                <p:nvPr/>
              </p:nvSpPr>
              <p:spPr>
                <a:xfrm>
                  <a:off x="2208960" y="4653000"/>
                  <a:ext cx="12697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UG kod prijem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Rectangle 10"/>
                <p:cNvSpPr/>
                <p:nvPr/>
              </p:nvSpPr>
              <p:spPr>
                <a:xfrm>
                  <a:off x="2116080" y="4653000"/>
                  <a:ext cx="145548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9" name="Group 11"/>
              <p:cNvGrpSpPr/>
              <p:nvPr/>
            </p:nvGrpSpPr>
            <p:grpSpPr>
              <a:xfrm>
                <a:off x="3572280" y="4653000"/>
                <a:ext cx="1455840" cy="793800"/>
                <a:chOff x="3572280" y="4653000"/>
                <a:chExt cx="1455840" cy="793800"/>
              </a:xfrm>
            </p:grpSpPr>
            <p:sp>
              <p:nvSpPr>
                <p:cNvPr id="210" name="Rectangle 12"/>
                <p:cNvSpPr/>
                <p:nvPr/>
              </p:nvSpPr>
              <p:spPr>
                <a:xfrm>
                  <a:off x="3665160" y="4653000"/>
                  <a:ext cx="12697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UG kod otpust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Rectangle 13"/>
                <p:cNvSpPr/>
                <p:nvPr/>
              </p:nvSpPr>
              <p:spPr>
                <a:xfrm>
                  <a:off x="3572280" y="4653000"/>
                  <a:ext cx="145584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2" name="Group 14"/>
              <p:cNvGrpSpPr/>
              <p:nvPr/>
            </p:nvGrpSpPr>
            <p:grpSpPr>
              <a:xfrm>
                <a:off x="5028480" y="4653000"/>
                <a:ext cx="1325520" cy="793800"/>
                <a:chOff x="5028480" y="4653000"/>
                <a:chExt cx="1325520" cy="793800"/>
              </a:xfrm>
            </p:grpSpPr>
            <p:sp>
              <p:nvSpPr>
                <p:cNvPr id="213" name="Rectangle 15"/>
                <p:cNvSpPr/>
                <p:nvPr/>
              </p:nvSpPr>
              <p:spPr>
                <a:xfrm>
                  <a:off x="5121000" y="4653000"/>
                  <a:ext cx="114048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atum otpust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Rectangle 16"/>
                <p:cNvSpPr/>
                <p:nvPr/>
              </p:nvSpPr>
              <p:spPr>
                <a:xfrm>
                  <a:off x="5028480" y="4653000"/>
                  <a:ext cx="132552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5" name="Group 17"/>
              <p:cNvGrpSpPr/>
              <p:nvPr/>
            </p:nvGrpSpPr>
            <p:grpSpPr>
              <a:xfrm>
                <a:off x="6354720" y="4653000"/>
                <a:ext cx="1715040" cy="793800"/>
                <a:chOff x="6354720" y="4653000"/>
                <a:chExt cx="1715040" cy="793800"/>
              </a:xfrm>
            </p:grpSpPr>
            <p:sp>
              <p:nvSpPr>
                <p:cNvPr id="216" name="Rectangle 18"/>
                <p:cNvSpPr/>
                <p:nvPr/>
              </p:nvSpPr>
              <p:spPr>
                <a:xfrm>
                  <a:off x="6447600" y="4653000"/>
                  <a:ext cx="152892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kupan broj tretmana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Rectangle 19"/>
                <p:cNvSpPr/>
                <p:nvPr/>
              </p:nvSpPr>
              <p:spPr>
                <a:xfrm>
                  <a:off x="6354720" y="4653000"/>
                  <a:ext cx="171504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8" name="Group 20"/>
              <p:cNvGrpSpPr/>
              <p:nvPr/>
            </p:nvGrpSpPr>
            <p:grpSpPr>
              <a:xfrm>
                <a:off x="844200" y="5446800"/>
                <a:ext cx="1271520" cy="639720"/>
                <a:chOff x="844200" y="5446800"/>
                <a:chExt cx="1271520" cy="639720"/>
              </a:xfrm>
            </p:grpSpPr>
            <p:sp>
              <p:nvSpPr>
                <p:cNvPr id="219" name="Rectangle 21"/>
                <p:cNvSpPr/>
                <p:nvPr/>
              </p:nvSpPr>
              <p:spPr>
                <a:xfrm>
                  <a:off x="937080" y="5446800"/>
                  <a:ext cx="1086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Rectangle 22"/>
                <p:cNvSpPr/>
                <p:nvPr/>
              </p:nvSpPr>
              <p:spPr>
                <a:xfrm>
                  <a:off x="844200" y="5446800"/>
                  <a:ext cx="1271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1" name="Group 23"/>
              <p:cNvGrpSpPr/>
              <p:nvPr/>
            </p:nvGrpSpPr>
            <p:grpSpPr>
              <a:xfrm>
                <a:off x="2116080" y="5446800"/>
                <a:ext cx="1455480" cy="639720"/>
                <a:chOff x="2116080" y="5446800"/>
                <a:chExt cx="1455480" cy="639720"/>
              </a:xfrm>
            </p:grpSpPr>
            <p:sp>
              <p:nvSpPr>
                <p:cNvPr id="222" name="Rectangle 24"/>
                <p:cNvSpPr/>
                <p:nvPr/>
              </p:nvSpPr>
              <p:spPr>
                <a:xfrm>
                  <a:off x="2208960" y="5446800"/>
                  <a:ext cx="126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Rectangle 25"/>
                <p:cNvSpPr/>
                <p:nvPr/>
              </p:nvSpPr>
              <p:spPr>
                <a:xfrm>
                  <a:off x="2116080" y="5446800"/>
                  <a:ext cx="1455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3572280" y="5446800"/>
                <a:ext cx="1455840" cy="639720"/>
                <a:chOff x="3572280" y="5446800"/>
                <a:chExt cx="1455840" cy="639720"/>
              </a:xfrm>
            </p:grpSpPr>
            <p:sp>
              <p:nvSpPr>
                <p:cNvPr id="225" name="Rectangle 27"/>
                <p:cNvSpPr/>
                <p:nvPr/>
              </p:nvSpPr>
              <p:spPr>
                <a:xfrm>
                  <a:off x="3665160" y="5446800"/>
                  <a:ext cx="126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Rectangle 28"/>
                <p:cNvSpPr/>
                <p:nvPr/>
              </p:nvSpPr>
              <p:spPr>
                <a:xfrm>
                  <a:off x="3572280" y="5446800"/>
                  <a:ext cx="1455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7" name="Group 29"/>
              <p:cNvGrpSpPr/>
              <p:nvPr/>
            </p:nvGrpSpPr>
            <p:grpSpPr>
              <a:xfrm>
                <a:off x="5028480" y="5446800"/>
                <a:ext cx="1325520" cy="639720"/>
                <a:chOff x="5028480" y="5446800"/>
                <a:chExt cx="1325520" cy="639720"/>
              </a:xfrm>
            </p:grpSpPr>
            <p:sp>
              <p:nvSpPr>
                <p:cNvPr id="228" name="Rectangle 30"/>
                <p:cNvSpPr/>
                <p:nvPr/>
              </p:nvSpPr>
              <p:spPr>
                <a:xfrm>
                  <a:off x="5121000" y="5446800"/>
                  <a:ext cx="1140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9" name="Rectangle 31"/>
                <p:cNvSpPr/>
                <p:nvPr/>
              </p:nvSpPr>
              <p:spPr>
                <a:xfrm>
                  <a:off x="5028480" y="5446800"/>
                  <a:ext cx="1325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0" name="Group 32"/>
              <p:cNvGrpSpPr/>
              <p:nvPr/>
            </p:nvGrpSpPr>
            <p:grpSpPr>
              <a:xfrm>
                <a:off x="6354720" y="5446800"/>
                <a:ext cx="1715040" cy="639720"/>
                <a:chOff x="6354720" y="5446800"/>
                <a:chExt cx="1715040" cy="639720"/>
              </a:xfrm>
            </p:grpSpPr>
            <p:sp>
              <p:nvSpPr>
                <p:cNvPr id="231" name="Rectangle 33"/>
                <p:cNvSpPr/>
                <p:nvPr/>
              </p:nvSpPr>
              <p:spPr>
                <a:xfrm>
                  <a:off x="6447600" y="5446800"/>
                  <a:ext cx="1528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Rectangle 34"/>
                <p:cNvSpPr/>
                <p:nvPr/>
              </p:nvSpPr>
              <p:spPr>
                <a:xfrm>
                  <a:off x="6354720" y="5446800"/>
                  <a:ext cx="1715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" name="Rectangle 35"/>
            <p:cNvSpPr/>
            <p:nvPr/>
          </p:nvSpPr>
          <p:spPr>
            <a:xfrm>
              <a:off x="838080" y="4648320"/>
              <a:ext cx="7238880" cy="144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češći uzrok nastanka hemiplegije je vaskularne priro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(CV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Thrombosis vasorum cereb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6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mbolia vasorum cereb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61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Haemorrhagia cerebr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d vaskularnih mogući uzroci su i tumori, traume, infekcije (apsces mozga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8252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547640" y="765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Etiologija i patogeneza hemipleg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2518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atoanatomske promene kod C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482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ffffff"/>
                </a:solidFill>
                <a:latin typeface="Tahoma"/>
              </a:rPr>
              <a:t>Nekroza -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protok krvi je ispod 10 ml/100gr/min. Dolazi do smrti ćelija mozga usled nedostatka kiseonika, glikoze i glikogena. Promene u ovoj oblasti su ireverzibilne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sr-Latn-CS" sz="2200" spc="-1" strike="noStrike">
                <a:solidFill>
                  <a:srgbClr val="ffffff"/>
                </a:solidFill>
                <a:latin typeface="Tahoma"/>
              </a:rPr>
              <a:t>Penumbra -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ishemična zona  protok krvi je 10-20 ml/100gr/min, ćelije su još uvek žive, ali su izgubile funkciju. Promene u ovoj zoni su reverzibiln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ffffff"/>
                </a:solidFill>
                <a:latin typeface="Tahoma"/>
              </a:rPr>
              <a:t>Edem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mozga - široka zona u kojoj je protok krvi 20ml/100gr/min, ali je funkcija transmisije narušen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Clip"/>
          <p:cNvPicPr/>
          <p:nvPr/>
        </p:nvPicPr>
        <p:blipFill>
          <a:blip r:embed="rId1"/>
          <a:stretch/>
        </p:blipFill>
        <p:spPr>
          <a:xfrm>
            <a:off x="5429160" y="1844640"/>
            <a:ext cx="3463920" cy="45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CVI prema dužini manifest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Subkliničke ishemi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nalaz samo na CT-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TIA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– prolazni neurološki deficit u trajanju od nekoliko sekundi ili minuta, a maksimalno do 24 s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RIND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reverzibilni ishemijski neurološki deficit. Fokalni deficit koji traje manje od 24 s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IND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progresivni ishemijski neurološki deficit Neurološki simptomi se razvijaju prvih 48 sati. Pogoršanja idu skokov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ompletan udar (CVI)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– definitivno cerebralno ošteć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lastičnost moz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posobnost  moždanih struktura da menjaju funkcionalnu organizaciju-jedan deo može preuzeti funkciju drugog d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grananje aks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denervacijska hipersenzitiv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izopotencija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upstitu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kompez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727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346680">
              <a:lnSpc>
                <a:spcPct val="80000"/>
              </a:lnSpc>
              <a:spcBef>
                <a:spcPts val="550"/>
              </a:spcBef>
              <a:buClr>
                <a:srgbClr val="cb35a0"/>
              </a:buClr>
              <a:buSzPct val="120000"/>
              <a:buFont typeface="Tahoma"/>
              <a:buAutoNum type="romanUcPeriod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Prirodni faktori rizika: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životno doba, pol, geografsko-klimatski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faktori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346680">
              <a:lnSpc>
                <a:spcPct val="80000"/>
              </a:lnSpc>
              <a:spcBef>
                <a:spcPts val="550"/>
              </a:spcBef>
              <a:buClr>
                <a:srgbClr val="cb35a0"/>
              </a:buClr>
              <a:buSzPct val="120000"/>
              <a:buFont typeface="Tahoma"/>
              <a:buAutoNum type="romanUcPeriod" startAt="2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„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Riziko oboljenja“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rterijska hipertenzij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diabetes mellitus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oboljenja srca,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hiperlipidemija, hiperholesterolemij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rterioskleroza i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25640" indent="-256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ateromatoza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346680">
              <a:lnSpc>
                <a:spcPct val="80000"/>
              </a:lnSpc>
              <a:spcBef>
                <a:spcPts val="550"/>
              </a:spcBef>
              <a:buClr>
                <a:srgbClr val="cb35a0"/>
              </a:buClr>
              <a:buSzPct val="120000"/>
              <a:buFont typeface="Tahoma"/>
              <a:buAutoNum type="romanUcPeriod" startAt="3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200" spc="-1" strike="noStrike">
                <a:solidFill>
                  <a:srgbClr val="ffffff"/>
                </a:solidFill>
                <a:latin typeface="Tahoma"/>
              </a:rPr>
              <a:t>Rđave navike: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 pušenje, konzumiranje alkohola, gojaznost, fizička i mentalna neaktivnost, stres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04200" y="1052640"/>
            <a:ext cx="7852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Faktori rizika za nastanak apopleks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Klinička slika hemiplegiča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motor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senzibili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percep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remećaj govora (desni) i ponašanja (lev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leksije, agraf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gnozije, apraksije, akalkulije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8:24:43Z</dcterms:created>
  <dc:creator>Jovan</dc:creator>
  <dc:description/>
  <dc:language>en-US</dc:language>
  <cp:lastModifiedBy>Info</cp:lastModifiedBy>
  <dcterms:modified xsi:type="dcterms:W3CDTF">2010-03-07T19:59:00Z</dcterms:modified>
  <cp:revision>18</cp:revision>
  <dc:subject/>
  <dc:title>MEDICINSKI FAKULTET KRAGUJEVAC Smer: Diplomirani viši medicinski tehničar Usmerenje: Fizioterapeutsko     DIPLOMSKI RAD </dc:title>
</cp:coreProperties>
</file>